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7.jpeg" ContentType="image/jpeg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EE6-5934-4694-8E51-9E1B6ABF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AF9-FFC3-4F60-B7FF-258A0127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991-936B-4FD0-A4D3-28C3B91E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649-5E20-489D-8B4F-CF547EFE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C70C-F0E7-413B-A38F-E03B7BEA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289-D82C-418D-BB27-4AB62619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61A-7C9A-4939-BA4F-88A5A44D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6DF-63D8-4082-9B4D-AE60A5A5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31B-5876-4859-BA26-03E442BA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BFB-0D1B-4BB6-BF14-85422B12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F4E-5C92-49C8-BA2D-9B153072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8E7-D494-472A-9CCD-F067092A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61CB-7631-431C-BF3A-7D7FB593B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Proces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becca Hutchi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work with Tom Mitch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ndra Rusta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FE40-CF3C-416C-AC2B-138E69F927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520" y="28195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 is not below the p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775-1028-4356-80E5-91D1391E14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E6E-3BD2-4731-ACB1-4536C898F93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68560" y="2819520"/>
            <a:ext cx="6984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CBE-4378-40D6-9E15-37DFBF2D4E3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0" y="3352680"/>
            <a:ext cx="13968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964-FC55-4FC0-9BB1-75A11BCE8FD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MRI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dimensional time series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ble noise on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small number of examples (trials) compared with features (voxe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D responses sum lin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D01-A2E9-408C-AC82-7F84BE289E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MRI (functional Magnetic Resonance Imaging)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Prior work on analyzing fMRI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Ms (Hidden Process Mod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Ms and Body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940-3794-429C-92ED-D0FC730327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not hopeles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etting is tough, but we can d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selection is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fMRI(t,t+8)-&gt;{Picture,Sentence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6200" y="36576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240" y="32004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56080" y="32004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09440" y="36576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17520" y="36576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x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114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114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4114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52800" y="28954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8240" y="41911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3360" y="41911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0880" y="41911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4114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00200" y="36576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95520" y="32004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5985" t="38277" r="7893" b="26538"/>
          <a:stretch/>
        </p:blipFill>
        <p:spPr>
          <a:xfrm>
            <a:off x="609480" y="4572000"/>
            <a:ext cx="3886200" cy="461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5985" t="38277" r="7893" b="26538"/>
          <a:stretch/>
        </p:blipFill>
        <p:spPr>
          <a:xfrm>
            <a:off x="4495680" y="4572000"/>
            <a:ext cx="3886200" cy="46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68D-B07E-4A73-B7B9-C149E259B4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95280" y="1219320"/>
          <a:ext cx="7467480" cy="1011240"/>
        </p:xfrm>
        <a:graphic>
          <a:graphicData uri="http://schemas.openxmlformats.org/drawingml/2006/table">
            <a:tbl>
              <a:tblPr/>
              <a:tblGrid>
                <a:gridCol w="1063440"/>
                <a:gridCol w="1071720"/>
                <a:gridCol w="1066680"/>
                <a:gridCol w="1063800"/>
                <a:gridCol w="1063440"/>
                <a:gridCol w="107172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3200" y="3428640"/>
            <a:ext cx="8650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ussian Naïve Bayes Classif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 confidence intervals per subject are +/- 10%-1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of default classifier is 5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selection: Top 240 most active voxels in b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80" y="12952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19800" y="175248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c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12920" y="2276640"/>
          <a:ext cx="7907040" cy="1044000"/>
        </p:xfrm>
        <a:graphic>
          <a:graphicData uri="http://schemas.openxmlformats.org/drawingml/2006/table">
            <a:tbl>
              <a:tblPr/>
              <a:tblGrid>
                <a:gridCol w="1124280"/>
                <a:gridCol w="1136520"/>
                <a:gridCol w="1126080"/>
                <a:gridCol w="1126440"/>
                <a:gridCol w="1131480"/>
                <a:gridCol w="1135800"/>
                <a:gridCol w="1126440"/>
              </a:tblGrid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65880" y="23623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9800" y="28195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c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F15-3CDD-4A6D-9AA9-4B0D1EDBDB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interes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architectures like ACT-R and 4CAPS predict cognitive processes involved in tasks, along with cortical regions associated with the proc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 learning can contribute to these architectures by linking their predictions to empirical fMRI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237-9885-4DB2-969E-D11A99BC04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istinguish between 12 semantic categories of words (e.g. tools vs. building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in classifiers across multiple su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065-AF61-4BEC-A411-289F7ADB88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MRI (functional Magnetic Resonance Imaging)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work on analyzing fMRI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Ms (Hidden Process Mod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Ms and Body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227-07C1-4472-A7F5-FF0C9E8E4C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an’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into account that the responses for Picture and Sentence overl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response for Decide look like and when does it 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5320" y="18288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000" y="13716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75200" y="13716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28200" y="18288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36280" y="1828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x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286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2286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286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71560" y="10666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7360" y="23623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2120" y="23623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9640" y="23623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2286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19320" y="18288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714640" y="13716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5985" t="38277" r="7893" b="26538"/>
          <a:stretch/>
        </p:blipFill>
        <p:spPr>
          <a:xfrm>
            <a:off x="228600" y="2743200"/>
            <a:ext cx="5029200" cy="461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5985" t="38277" r="7893" b="26538"/>
          <a:stretch/>
        </p:blipFill>
        <p:spPr>
          <a:xfrm>
            <a:off x="4114800" y="3276720"/>
            <a:ext cx="5029200" cy="46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81D-201F-4F7E-9F43-AC8279D63C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MRI (functional Magnetic Resonance Imaging)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work on analyzing fMRI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HPMs (Hidden Process Mod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Ms and Body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6B5-EF27-400E-8A07-9BF5E6794A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ponses to Picture and Sentence could overlap in space and/o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de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does not directly correspond to the known stimu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a temporal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55D-DA92-4F72-B584-0316307088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do overlapping processes – states are mutually exclu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ov assumption: given stat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tat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dependent of everything before t-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BOLD response: Not Markov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16002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6002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1600200"/>
            <a:ext cx="533160" cy="5335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160020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0" idx="6"/>
            <a:endCxn id="161" idx="2"/>
          </p:cNvCxnSpPr>
          <p:nvPr/>
        </p:nvCxnSpPr>
        <p:spPr>
          <a:xfrm>
            <a:off x="2209320" y="186660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>
            <a:off x="4038120" y="182844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>
            <a:off x="5866920" y="182844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1676520" y="3048120"/>
            <a:ext cx="5331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3048120"/>
            <a:ext cx="5331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3048120"/>
            <a:ext cx="5331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3048120"/>
            <a:ext cx="5331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0" idx="4"/>
            <a:endCxn id="167" idx="0"/>
          </p:cNvCxnSpPr>
          <p:nvPr/>
        </p:nvCxnSpPr>
        <p:spPr>
          <a:xfrm>
            <a:off x="1942920" y="213372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/>
          <p:nvPr/>
        </p:nvCxnSpPr>
        <p:spPr>
          <a:xfrm>
            <a:off x="3733560" y="213372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>
            <a:off x="5562360" y="213372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/>
          <p:nvPr/>
        </p:nvCxnSpPr>
        <p:spPr>
          <a:xfrm>
            <a:off x="7391160" y="213372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1754280" y="12193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9040" y="1219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0" y="121932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64000" y="121932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7440" y="1676520"/>
            <a:ext cx="120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g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i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ent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Dec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5080" y="31608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60" idx="5"/>
            <a:endCxn id="168" idx="1"/>
          </p:cNvCxnSpPr>
          <p:nvPr/>
        </p:nvCxnSpPr>
        <p:spPr>
          <a:xfrm>
            <a:off x="2131560" y="2055960"/>
            <a:ext cx="1451880" cy="10706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182" name=""/>
          <p:cNvCxnSpPr/>
          <p:nvPr/>
        </p:nvCxnSpPr>
        <p:spPr>
          <a:xfrm>
            <a:off x="3962520" y="2057400"/>
            <a:ext cx="1451520" cy="10706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>
            <a:off x="5791320" y="2057400"/>
            <a:ext cx="1451520" cy="10706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60" idx="5"/>
            <a:endCxn id="169" idx="2"/>
          </p:cNvCxnSpPr>
          <p:nvPr/>
        </p:nvCxnSpPr>
        <p:spPr>
          <a:xfrm>
            <a:off x="2131560" y="2055600"/>
            <a:ext cx="3202920" cy="12596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185" name=""/>
          <p:cNvCxnSpPr/>
          <p:nvPr/>
        </p:nvCxnSpPr>
        <p:spPr>
          <a:xfrm>
            <a:off x="3962520" y="2057040"/>
            <a:ext cx="3202560" cy="12596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391-CE00-4272-A14E-BF9201B491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al HM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more flexibility than we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state sequence should not be {0 1 0 1 0 1 0 1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have 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Mark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sumption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16002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16002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16002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43800" y="16002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88" idx="6"/>
            <a:endCxn id="189" idx="2"/>
          </p:cNvCxnSpPr>
          <p:nvPr/>
        </p:nvCxnSpPr>
        <p:spPr>
          <a:xfrm>
            <a:off x="2590920" y="186660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/>
          <p:nvPr/>
        </p:nvCxnSpPr>
        <p:spPr>
          <a:xfrm>
            <a:off x="4419720" y="182844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/>
          <p:nvPr/>
        </p:nvCxnSpPr>
        <p:spPr>
          <a:xfrm>
            <a:off x="6248520" y="182844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2057400" y="3809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809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809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3809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35160" y="12193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39920" y="1219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6080" y="121932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44880" y="121932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22860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2286000"/>
            <a:ext cx="533520" cy="5335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2286000"/>
            <a:ext cx="533520" cy="5335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2286000"/>
            <a:ext cx="533520" cy="5335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3" idx="6"/>
            <a:endCxn id="204" idx="2"/>
          </p:cNvCxnSpPr>
          <p:nvPr/>
        </p:nvCxnSpPr>
        <p:spPr>
          <a:xfrm>
            <a:off x="2590920" y="255240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/>
          <p:nvPr/>
        </p:nvCxnSpPr>
        <p:spPr>
          <a:xfrm>
            <a:off x="4419720" y="251424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/>
          <p:nvPr/>
        </p:nvCxnSpPr>
        <p:spPr>
          <a:xfrm>
            <a:off x="6248520" y="251424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2057400" y="29718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9718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2971800"/>
            <a:ext cx="53352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2971800"/>
            <a:ext cx="53352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10" idx="6"/>
            <a:endCxn id="211" idx="2"/>
          </p:cNvCxnSpPr>
          <p:nvPr/>
        </p:nvCxnSpPr>
        <p:spPr>
          <a:xfrm>
            <a:off x="2590920" y="323820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/>
          <p:nvPr/>
        </p:nvCxnSpPr>
        <p:spPr>
          <a:xfrm>
            <a:off x="4419720" y="320004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/>
          <p:nvPr/>
        </p:nvCxnSpPr>
        <p:spPr>
          <a:xfrm>
            <a:off x="6248520" y="320004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230040" y="167652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icture = {0,1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60" y="2362320"/>
            <a:ext cx="18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entence = {0,1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0760" y="304812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Decide = {0,1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1400" y="3846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0" idx="4"/>
            <a:endCxn id="195" idx="0"/>
          </p:cNvCxnSpPr>
          <p:nvPr/>
        </p:nvCxnSpPr>
        <p:spPr>
          <a:xfrm flipV="1" rot="10800000">
            <a:off x="2323440" y="3504960"/>
            <a:ext cx="10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1" idx="4"/>
            <a:endCxn id="196" idx="0"/>
          </p:cNvCxnSpPr>
          <p:nvPr/>
        </p:nvCxnSpPr>
        <p:spPr>
          <a:xfrm flipV="1" rot="10800000">
            <a:off x="4152240" y="3504960"/>
            <a:ext cx="10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2" idx="4"/>
            <a:endCxn id="197" idx="0"/>
          </p:cNvCxnSpPr>
          <p:nvPr/>
        </p:nvCxnSpPr>
        <p:spPr>
          <a:xfrm flipV="1" rot="10800000">
            <a:off x="5981040" y="3504960"/>
            <a:ext cx="10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3" idx="4"/>
            <a:endCxn id="198" idx="0"/>
          </p:cNvCxnSpPr>
          <p:nvPr/>
        </p:nvCxnSpPr>
        <p:spPr>
          <a:xfrm flipV="1" rot="10800000">
            <a:off x="7809840" y="3504960"/>
            <a:ext cx="10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03" idx="6"/>
            <a:endCxn id="195" idx="6"/>
          </p:cNvCxnSpPr>
          <p:nvPr/>
        </p:nvCxnSpPr>
        <p:spPr>
          <a:xfrm>
            <a:off x="2590920" y="2552400"/>
            <a:ext cx="2160" cy="152460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>
            <a:off x="4419720" y="2514240"/>
            <a:ext cx="2160" cy="152460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/>
          <p:nvPr/>
        </p:nvCxnSpPr>
        <p:spPr>
          <a:xfrm>
            <a:off x="6248520" y="2514240"/>
            <a:ext cx="2160" cy="152460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/>
          <p:nvPr/>
        </p:nvCxnSpPr>
        <p:spPr>
          <a:xfrm>
            <a:off x="8077320" y="2514240"/>
            <a:ext cx="2160" cy="152460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188" idx="2"/>
            <a:endCxn id="195" idx="2"/>
          </p:cNvCxnSpPr>
          <p:nvPr/>
        </p:nvCxnSpPr>
        <p:spPr>
          <a:xfrm flipH="1" flipV="1" rot="10800000">
            <a:off x="2057040" y="1866600"/>
            <a:ext cx="2160" cy="2210400"/>
          </a:xfrm>
          <a:prstGeom prst="curvedConnector5">
            <a:avLst>
              <a:gd name="adj1" fmla="val -14400000"/>
              <a:gd name="adj2" fmla="val 49991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/>
          <p:nvPr/>
        </p:nvCxnSpPr>
        <p:spPr>
          <a:xfrm flipH="1" flipV="1" rot="10800000">
            <a:off x="3885840" y="1904760"/>
            <a:ext cx="2160" cy="2210400"/>
          </a:xfrm>
          <a:prstGeom prst="curvedConnector5">
            <a:avLst>
              <a:gd name="adj1" fmla="val -14400000"/>
              <a:gd name="adj2" fmla="val 49991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/>
          <p:nvPr/>
        </p:nvCxnSpPr>
        <p:spPr>
          <a:xfrm flipH="1" flipV="1" rot="10800000">
            <a:off x="5714640" y="1904760"/>
            <a:ext cx="2160" cy="2210400"/>
          </a:xfrm>
          <a:prstGeom prst="curvedConnector5">
            <a:avLst>
              <a:gd name="adj1" fmla="val -14400000"/>
              <a:gd name="adj2" fmla="val 49991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/>
          <p:nvPr/>
        </p:nvCxnSpPr>
        <p:spPr>
          <a:xfrm flipH="1" flipV="1" rot="10800000">
            <a:off x="7543440" y="1904760"/>
            <a:ext cx="2160" cy="2210400"/>
          </a:xfrm>
          <a:prstGeom prst="curvedConnector5">
            <a:avLst>
              <a:gd name="adj1" fmla="val -14400000"/>
              <a:gd name="adj2" fmla="val 49991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10" idx="4"/>
            <a:endCxn id="196" idx="2"/>
          </p:cNvCxnSpPr>
          <p:nvPr/>
        </p:nvCxnSpPr>
        <p:spPr>
          <a:xfrm>
            <a:off x="2323800" y="3504960"/>
            <a:ext cx="1562760" cy="5720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234" name=""/>
          <p:cNvCxnSpPr/>
          <p:nvPr/>
        </p:nvCxnSpPr>
        <p:spPr>
          <a:xfrm>
            <a:off x="4190760" y="3504960"/>
            <a:ext cx="1562760" cy="5720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235" name=""/>
          <p:cNvCxnSpPr/>
          <p:nvPr/>
        </p:nvCxnSpPr>
        <p:spPr>
          <a:xfrm>
            <a:off x="6019560" y="3504960"/>
            <a:ext cx="1562760" cy="5720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endCxn id="197" idx="2"/>
          </p:cNvCxnSpPr>
          <p:nvPr/>
        </p:nvCxnSpPr>
        <p:spPr>
          <a:xfrm>
            <a:off x="2361960" y="3504960"/>
            <a:ext cx="3353400" cy="5720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237" name=""/>
          <p:cNvCxnSpPr/>
          <p:nvPr/>
        </p:nvCxnSpPr>
        <p:spPr>
          <a:xfrm>
            <a:off x="4267080" y="3504960"/>
            <a:ext cx="3353760" cy="5720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endCxn id="196" idx="2"/>
          </p:cNvCxnSpPr>
          <p:nvPr/>
        </p:nvCxnSpPr>
        <p:spPr>
          <a:xfrm>
            <a:off x="2361960" y="2819520"/>
            <a:ext cx="1524600" cy="12578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239" name=""/>
          <p:cNvCxnSpPr/>
          <p:nvPr/>
        </p:nvCxnSpPr>
        <p:spPr>
          <a:xfrm>
            <a:off x="4267080" y="2819520"/>
            <a:ext cx="1524960" cy="12578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240" name=""/>
          <p:cNvCxnSpPr/>
          <p:nvPr/>
        </p:nvCxnSpPr>
        <p:spPr>
          <a:xfrm>
            <a:off x="6095880" y="2819520"/>
            <a:ext cx="1524960" cy="12578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3" idx="4"/>
          </p:cNvCxnSpPr>
          <p:nvPr/>
        </p:nvCxnSpPr>
        <p:spPr>
          <a:xfrm>
            <a:off x="2323800" y="2819520"/>
            <a:ext cx="3391560" cy="121968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04" idx="4"/>
          </p:cNvCxnSpPr>
          <p:nvPr/>
        </p:nvCxnSpPr>
        <p:spPr>
          <a:xfrm>
            <a:off x="4152600" y="2819520"/>
            <a:ext cx="3467880" cy="121968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endCxn id="196" idx="2"/>
          </p:cNvCxnSpPr>
          <p:nvPr/>
        </p:nvCxnSpPr>
        <p:spPr>
          <a:xfrm>
            <a:off x="2361960" y="2133360"/>
            <a:ext cx="1524600" cy="19436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244" name=""/>
          <p:cNvCxnSpPr/>
          <p:nvPr/>
        </p:nvCxnSpPr>
        <p:spPr>
          <a:xfrm>
            <a:off x="4190760" y="2133360"/>
            <a:ext cx="1524600" cy="19436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>
            <a:off x="6019560" y="2133360"/>
            <a:ext cx="1524600" cy="19436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endCxn id="197" idx="2"/>
          </p:cNvCxnSpPr>
          <p:nvPr/>
        </p:nvCxnSpPr>
        <p:spPr>
          <a:xfrm>
            <a:off x="2361960" y="2133360"/>
            <a:ext cx="3353400" cy="19436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247" name=""/>
          <p:cNvCxnSpPr/>
          <p:nvPr/>
        </p:nvCxnSpPr>
        <p:spPr>
          <a:xfrm>
            <a:off x="4190760" y="2133360"/>
            <a:ext cx="3353400" cy="19436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30B-1EC9-4E89-BAD3-C501E7B84D72}" type="slidenum">
              <a:t>24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Proces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3809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12840" t="19277" r="64539" b="67097"/>
          <a:stretch/>
        </p:blipFill>
        <p:spPr>
          <a:xfrm>
            <a:off x="2400480" y="5168880"/>
            <a:ext cx="5715000" cy="414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rcRect l="12810" t="81133" r="64669" b="0"/>
          <a:stretch/>
        </p:blipFill>
        <p:spPr>
          <a:xfrm>
            <a:off x="2355840" y="5943600"/>
            <a:ext cx="5689440" cy="304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rot="5377800">
            <a:off x="3263760" y="38988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377800">
            <a:off x="4787640" y="473688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377800">
            <a:off x="5187600" y="3193920"/>
            <a:ext cx="304920" cy="306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52760" y="34290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67120" y="373392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41148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5377800">
            <a:off x="3263760" y="38988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5377800">
            <a:off x="5187600" y="3193920"/>
            <a:ext cx="304920" cy="306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3429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3352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Insta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4191120"/>
            <a:ext cx="22860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d fM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cortical region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ortical region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95280" y="5334120"/>
            <a:ext cx="674640" cy="685800"/>
            <a:chOff x="1295280" y="5334120"/>
            <a:chExt cx="674640" cy="685800"/>
          </a:xfrm>
        </p:grpSpPr>
        <p:pic>
          <p:nvPicPr>
            <p:cNvPr id="264" name="" descr=""/>
            <p:cNvPicPr/>
            <p:nvPr/>
          </p:nvPicPr>
          <p:blipFill>
            <a:blip r:embed="rId3"/>
            <a:stretch/>
          </p:blipFill>
          <p:spPr>
            <a:xfrm>
              <a:off x="1295280" y="5334120"/>
              <a:ext cx="674640" cy="685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65" name=""/>
            <p:cNvSpPr/>
            <p:nvPr/>
          </p:nvSpPr>
          <p:spPr>
            <a:xfrm>
              <a:off x="1664280" y="5470920"/>
              <a:ext cx="71280" cy="15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76160" y="5744160"/>
              <a:ext cx="136800" cy="680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7" name=""/>
          <p:cNvCxnSpPr>
            <a:endCxn id="258" idx="1"/>
          </p:cNvCxnSpPr>
          <p:nvPr/>
        </p:nvCxnSpPr>
        <p:spPr>
          <a:xfrm>
            <a:off x="3200040" y="3429000"/>
            <a:ext cx="21492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0" idx="2"/>
            <a:endCxn id="253" idx="1"/>
          </p:cNvCxnSpPr>
          <p:nvPr/>
        </p:nvCxnSpPr>
        <p:spPr>
          <a:xfrm>
            <a:off x="4571640" y="3733560"/>
            <a:ext cx="36756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49" idx="2"/>
            <a:endCxn id="259" idx="1"/>
          </p:cNvCxnSpPr>
          <p:nvPr/>
        </p:nvCxnSpPr>
        <p:spPr>
          <a:xfrm>
            <a:off x="5333760" y="4114800"/>
            <a:ext cx="54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9829800" y="3809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ide whether consis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rcRect l="12840" t="19277" r="64539" b="67097"/>
          <a:stretch/>
        </p:blipFill>
        <p:spPr>
          <a:xfrm>
            <a:off x="8115480" y="5168880"/>
            <a:ext cx="5715000" cy="414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rcRect l="12810" t="81133" r="64669" b="0"/>
          <a:stretch/>
        </p:blipFill>
        <p:spPr>
          <a:xfrm>
            <a:off x="8070840" y="5943600"/>
            <a:ext cx="5689440" cy="304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 rot="5377800">
            <a:off x="8978760" y="38988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5377800">
            <a:off x="10502640" y="473688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377800">
            <a:off x="10902600" y="3193920"/>
            <a:ext cx="304920" cy="306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353360" y="34290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582120" y="373392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677520" y="41148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377800">
            <a:off x="8978760" y="38988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377800">
            <a:off x="10902600" y="3193920"/>
            <a:ext cx="304920" cy="306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372600" y="3429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endCxn id="279" idx="1"/>
          </p:cNvCxnSpPr>
          <p:nvPr/>
        </p:nvCxnSpPr>
        <p:spPr>
          <a:xfrm>
            <a:off x="8000640" y="3429000"/>
            <a:ext cx="112932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81" idx="2"/>
            <a:endCxn id="274" idx="1"/>
          </p:cNvCxnSpPr>
          <p:nvPr/>
        </p:nvCxnSpPr>
        <p:spPr>
          <a:xfrm>
            <a:off x="10286640" y="3733560"/>
            <a:ext cx="36756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0" idx="2"/>
            <a:endCxn id="280" idx="1"/>
          </p:cNvCxnSpPr>
          <p:nvPr/>
        </p:nvCxnSpPr>
        <p:spPr>
          <a:xfrm>
            <a:off x="11048760" y="4114800"/>
            <a:ext cx="54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308160" y="16257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1219320"/>
            <a:ext cx="19810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9880" y="121932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121932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74000" y="1143000"/>
            <a:ext cx="203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: Read sent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7360" y="1143000"/>
            <a:ext cx="183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: View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: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17040" y="1143000"/>
            <a:ext cx="209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: Decide whe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: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2362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62520" y="2362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48520" y="2362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1790640"/>
            <a:ext cx="1218960" cy="800280"/>
          </a:xfrm>
          <a:custGeom>
            <a:avLst/>
            <a:gdLst/>
            <a:ahLst/>
            <a:rect l="l" t="t" r="r" b="b"/>
            <a:pathLst>
              <a:path w="768" h="504">
                <a:moveTo>
                  <a:pt x="0" y="312"/>
                </a:moveTo>
                <a:cubicBezTo>
                  <a:pt x="24" y="408"/>
                  <a:pt x="48" y="504"/>
                  <a:pt x="96" y="456"/>
                </a:cubicBezTo>
                <a:cubicBezTo>
                  <a:pt x="144" y="408"/>
                  <a:pt x="224" y="48"/>
                  <a:pt x="288" y="24"/>
                </a:cubicBezTo>
                <a:cubicBezTo>
                  <a:pt x="352" y="0"/>
                  <a:pt x="400" y="256"/>
                  <a:pt x="480" y="312"/>
                </a:cubicBezTo>
                <a:cubicBezTo>
                  <a:pt x="560" y="368"/>
                  <a:pt x="720" y="352"/>
                  <a:pt x="768" y="360"/>
                </a:cubicBezTo>
              </a:path>
            </a:pathLst>
          </a:custGeom>
          <a:noFill/>
          <a:ln w="284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38480" y="2044800"/>
            <a:ext cx="1219320" cy="431640"/>
          </a:xfrm>
          <a:custGeom>
            <a:avLst/>
            <a:gdLst/>
            <a:ahLst/>
            <a:rect l="l" t="t" r="r" b="b"/>
            <a:pathLst>
              <a:path w="768" h="272">
                <a:moveTo>
                  <a:pt x="0" y="152"/>
                </a:moveTo>
                <a:cubicBezTo>
                  <a:pt x="32" y="212"/>
                  <a:pt x="64" y="272"/>
                  <a:pt x="144" y="248"/>
                </a:cubicBezTo>
                <a:cubicBezTo>
                  <a:pt x="224" y="224"/>
                  <a:pt x="376" y="16"/>
                  <a:pt x="480" y="8"/>
                </a:cubicBezTo>
                <a:cubicBezTo>
                  <a:pt x="584" y="0"/>
                  <a:pt x="676" y="100"/>
                  <a:pt x="768" y="200"/>
                </a:cubicBezTo>
              </a:path>
            </a:pathLst>
          </a:custGeom>
          <a:noFill/>
          <a:ln w="284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2057400"/>
            <a:ext cx="121932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192"/>
                </a:moveTo>
                <a:cubicBezTo>
                  <a:pt x="80" y="96"/>
                  <a:pt x="160" y="0"/>
                  <a:pt x="288" y="0"/>
                </a:cubicBezTo>
                <a:cubicBezTo>
                  <a:pt x="416" y="0"/>
                  <a:pt x="592" y="96"/>
                  <a:pt x="768" y="192"/>
                </a:cubicBezTo>
              </a:path>
            </a:pathLst>
          </a:custGeom>
          <a:noFill/>
          <a:ln w="284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1752480"/>
            <a:ext cx="1219320" cy="800280"/>
          </a:xfrm>
          <a:custGeom>
            <a:avLst/>
            <a:gdLst/>
            <a:ahLst/>
            <a:rect l="l" t="t" r="r" b="b"/>
            <a:pathLst>
              <a:path w="768" h="504">
                <a:moveTo>
                  <a:pt x="0" y="312"/>
                </a:moveTo>
                <a:cubicBezTo>
                  <a:pt x="24" y="408"/>
                  <a:pt x="48" y="504"/>
                  <a:pt x="96" y="456"/>
                </a:cubicBezTo>
                <a:cubicBezTo>
                  <a:pt x="144" y="408"/>
                  <a:pt x="224" y="48"/>
                  <a:pt x="288" y="24"/>
                </a:cubicBezTo>
                <a:cubicBezTo>
                  <a:pt x="352" y="0"/>
                  <a:pt x="400" y="256"/>
                  <a:pt x="480" y="312"/>
                </a:cubicBezTo>
                <a:cubicBezTo>
                  <a:pt x="560" y="368"/>
                  <a:pt x="720" y="352"/>
                  <a:pt x="768" y="36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057400"/>
            <a:ext cx="121896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192"/>
                </a:moveTo>
                <a:cubicBezTo>
                  <a:pt x="80" y="96"/>
                  <a:pt x="160" y="0"/>
                  <a:pt x="288" y="0"/>
                </a:cubicBezTo>
                <a:cubicBezTo>
                  <a:pt x="416" y="0"/>
                  <a:pt x="592" y="96"/>
                  <a:pt x="768" y="19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2031840"/>
            <a:ext cx="1219320" cy="330480"/>
          </a:xfrm>
          <a:custGeom>
            <a:avLst/>
            <a:gdLst/>
            <a:ahLst/>
            <a:rect l="l" t="t" r="r" b="b"/>
            <a:pathLst>
              <a:path w="768" h="208">
                <a:moveTo>
                  <a:pt x="0" y="208"/>
                </a:moveTo>
                <a:cubicBezTo>
                  <a:pt x="20" y="120"/>
                  <a:pt x="40" y="32"/>
                  <a:pt x="96" y="16"/>
                </a:cubicBezTo>
                <a:cubicBezTo>
                  <a:pt x="152" y="0"/>
                  <a:pt x="240" y="96"/>
                  <a:pt x="336" y="112"/>
                </a:cubicBezTo>
                <a:cubicBezTo>
                  <a:pt x="432" y="128"/>
                  <a:pt x="600" y="96"/>
                  <a:pt x="672" y="112"/>
                </a:cubicBezTo>
                <a:cubicBezTo>
                  <a:pt x="744" y="128"/>
                  <a:pt x="752" y="192"/>
                  <a:pt x="768" y="208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31240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10280" y="31240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432-8B7F-48EE-A859-6F8140D2F4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PM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processes, each of which h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ximum response duration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ssion weights for each voxel v [W(v,1),…,W(v,t),…,W(v,R)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ultinomial distribution over possible start times within a trial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standard deviations – one for each voxe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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4E3-0921-4524-82D7-3480AEA110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data with HP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Interpretation (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process instances, each of which h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rt tim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dict fMRI data using an HPM and 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active process, add the response associated with its processID to the predi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A15-5474-4334-AFD9-45370E8CE3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tic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057400" y="4114800"/>
            <a:ext cx="6172200" cy="2583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7010280" y="1600200"/>
            <a:ext cx="1447920" cy="11444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759040" y="1563840"/>
            <a:ext cx="1447920" cy="11444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4800600" y="1600200"/>
            <a:ext cx="1447920" cy="11286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822040" y="12193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03120" y="12193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89120" y="12193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5520" y="17524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respon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80" y="320040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insta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62320" y="3200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36576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48320" y="41148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8240" y="43038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4495680"/>
            <a:ext cx="3124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48280" y="285588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D=1, 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4160" y="327672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D=2, S=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02760" y="373392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D=3, S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58C-DA5E-496B-B878-0D4F0CFB2D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, not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hidden variable – process star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number of processes in the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icture, Sentence, Decide – 3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number of instantiations of those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numTrials*3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has a unique sign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s of overlapping processes to the same output variable sum linear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176-8CC2-43EB-9FF9-395A111B98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MR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96A-2E98-49CF-ACD6-B41687FC63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enerativ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gether HPM and interpretation (int) define a probability distribution over sequences of fMRI im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17280" y="388620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02040" y="3124080"/>
            <a:ext cx="405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v,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pm,int) = 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v,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93120" y="480060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v,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       </a:t>
            </a: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.pro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,t – start(i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32040" y="563868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tive proces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E25-972A-4353-95B4-F8B159288E6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H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data interpretations (int) of processIDs and start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s over the interpre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int=i|Y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(Y|int=i)P(int=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he interpretation i with the highest prob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10F-FD8E-4DCC-905E-5418D9B7B5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tic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40" y="156384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erpretation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62320" y="156384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19720" y="202104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95680" y="2441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38600" y="46846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362320" y="118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48280" y="121932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cessID=1, 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4160" y="163980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cessID=2, S=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02760" y="209700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cessID=3, S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40" y="3087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Interpretation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62320" y="30877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19720" y="35449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76920" y="40384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2706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8280" y="274320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rocessID=2, 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4160" y="316404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rocessID=1, S=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31360" y="365760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rocessID=3, S=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828800" y="4114800"/>
            <a:ext cx="6248520" cy="26258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29680" y="510552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edic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9680" y="556272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redic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AB8-EFEB-46AB-A98C-2EA787F4C5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th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 (Expectation-Maximization)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a conditional distribution over the start times of the process instances given the observed data, P(S|fMR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-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istribution from the E step to get maximum-likelihood estimates of the HPM parameters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8AC8-431B-4F5C-93A8-864196842A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the E-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 times of the process instances are not necessarily conditionally independent given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nsider joint configu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no constraints,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Insta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figur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s for typical exper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sider a smaller set of start time configur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152-CF6E-40E8-93E8-7ABF9C15340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ing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with known timing that “trigger” process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er process in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val of possible delays from a landmark to a process instance onse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vecto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sets pe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in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when no process instance could be a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997-D8F7-4832-AD9A-5E1BB5DFF1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Prior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8620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ide whether consis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rcRect l="12840" t="19277" r="64539" b="67097"/>
          <a:stretch/>
        </p:blipFill>
        <p:spPr>
          <a:xfrm>
            <a:off x="2400480" y="4788000"/>
            <a:ext cx="5715000" cy="414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rcRect l="12810" t="81133" r="64669" b="0"/>
          <a:stretch/>
        </p:blipFill>
        <p:spPr>
          <a:xfrm>
            <a:off x="2355840" y="5562720"/>
            <a:ext cx="5689440" cy="3045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 rot="5377800">
            <a:off x="3263760" y="35175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5377800">
            <a:off x="4787640" y="43560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5377800">
            <a:off x="5187600" y="28130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76440" y="19051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90800" y="220968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25909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5377800">
            <a:off x="3263760" y="35175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5377800">
            <a:off x="5187600" y="28130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09680" y="16002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 sent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81280" y="1905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18288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gnitive proces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4343400"/>
            <a:ext cx="2057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ed fMR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tical region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tical region 2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295280" y="4952880"/>
            <a:ext cx="674640" cy="685800"/>
            <a:chOff x="1295280" y="4952880"/>
            <a:chExt cx="674640" cy="685800"/>
          </a:xfrm>
        </p:grpSpPr>
        <p:pic>
          <p:nvPicPr>
            <p:cNvPr id="380" name="" descr=""/>
            <p:cNvPicPr/>
            <p:nvPr/>
          </p:nvPicPr>
          <p:blipFill>
            <a:blip r:embed="rId3"/>
            <a:stretch/>
          </p:blipFill>
          <p:spPr>
            <a:xfrm>
              <a:off x="1295280" y="4952880"/>
              <a:ext cx="674640" cy="685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81" name=""/>
            <p:cNvSpPr/>
            <p:nvPr/>
          </p:nvSpPr>
          <p:spPr>
            <a:xfrm>
              <a:off x="1664280" y="5089680"/>
              <a:ext cx="71280" cy="15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76160" y="5362920"/>
              <a:ext cx="136800" cy="680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3" name=""/>
          <p:cNvCxnSpPr>
            <a:stCxn id="375" idx="2"/>
            <a:endCxn id="373" idx="1"/>
          </p:cNvCxnSpPr>
          <p:nvPr/>
        </p:nvCxnSpPr>
        <p:spPr>
          <a:xfrm>
            <a:off x="3123720" y="1904760"/>
            <a:ext cx="29124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6" idx="2"/>
            <a:endCxn id="368" idx="1"/>
          </p:cNvCxnSpPr>
          <p:nvPr/>
        </p:nvCxnSpPr>
        <p:spPr>
          <a:xfrm>
            <a:off x="4495320" y="2209320"/>
            <a:ext cx="4438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64" idx="2"/>
            <a:endCxn id="374" idx="1"/>
          </p:cNvCxnSpPr>
          <p:nvPr/>
        </p:nvCxnSpPr>
        <p:spPr>
          <a:xfrm>
            <a:off x="5105520" y="2590560"/>
            <a:ext cx="23400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9A7-0143-4B9C-9B7F-C8CD130C69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886200" y="2971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ide whether consis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rcRect l="12840" t="19277" r="64539" b="67097"/>
          <a:stretch/>
        </p:blipFill>
        <p:spPr>
          <a:xfrm>
            <a:off x="2171880" y="4940280"/>
            <a:ext cx="5715000" cy="414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rcRect l="12810" t="81133" r="64669" b="0"/>
          <a:stretch/>
        </p:blipFill>
        <p:spPr>
          <a:xfrm>
            <a:off x="2127240" y="5715000"/>
            <a:ext cx="5689440" cy="3049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 rot="5377800">
            <a:off x="3035160" y="36702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5377800">
            <a:off x="4559040" y="450828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5377800">
            <a:off x="4959000" y="2965320"/>
            <a:ext cx="304920" cy="306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47840" y="25909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62200" y="289548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86200" y="32767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5377800">
            <a:off x="3035160" y="36702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5377800">
            <a:off x="4959000" y="2965320"/>
            <a:ext cx="304920" cy="306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28800" y="2286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 sent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2590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25146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gnitive proces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057400" y="1218960"/>
            <a:ext cx="5791320" cy="793800"/>
            <a:chOff x="2057400" y="1218960"/>
            <a:chExt cx="5791320" cy="793800"/>
          </a:xfrm>
        </p:grpSpPr>
        <p:sp>
          <p:nvSpPr>
            <p:cNvPr id="401" name=""/>
            <p:cNvSpPr/>
            <p:nvPr/>
          </p:nvSpPr>
          <p:spPr>
            <a:xfrm>
              <a:off x="2057400" y="1225800"/>
              <a:ext cx="5791320" cy="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260800" y="1219320"/>
              <a:ext cx="0" cy="4572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3562200" y="1218960"/>
              <a:ext cx="6120" cy="7938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33520" y="4572000"/>
            <a:ext cx="2057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ed fMR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tical region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tical region 2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219320" y="5181480"/>
            <a:ext cx="674640" cy="685800"/>
            <a:chOff x="1219320" y="5181480"/>
            <a:chExt cx="674640" cy="685800"/>
          </a:xfrm>
        </p:grpSpPr>
        <p:pic>
          <p:nvPicPr>
            <p:cNvPr id="406" name="" descr=""/>
            <p:cNvPicPr/>
            <p:nvPr/>
          </p:nvPicPr>
          <p:blipFill>
            <a:blip r:embed="rId3"/>
            <a:stretch/>
          </p:blipFill>
          <p:spPr>
            <a:xfrm>
              <a:off x="1219320" y="5181480"/>
              <a:ext cx="674640" cy="685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07" name=""/>
            <p:cNvSpPr/>
            <p:nvPr/>
          </p:nvSpPr>
          <p:spPr>
            <a:xfrm>
              <a:off x="1588320" y="5318280"/>
              <a:ext cx="71280" cy="15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00200" y="5591520"/>
              <a:ext cx="136800" cy="680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04920" y="1371600"/>
            <a:ext cx="11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Landma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(Stimul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"/>
          <p:cNvCxnSpPr>
            <a:stCxn id="397" idx="2"/>
            <a:endCxn id="395" idx="1"/>
          </p:cNvCxnSpPr>
          <p:nvPr/>
        </p:nvCxnSpPr>
        <p:spPr>
          <a:xfrm>
            <a:off x="2743200" y="2590560"/>
            <a:ext cx="44352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398" idx="2"/>
            <a:endCxn id="390" idx="1"/>
          </p:cNvCxnSpPr>
          <p:nvPr/>
        </p:nvCxnSpPr>
        <p:spPr>
          <a:xfrm>
            <a:off x="4266720" y="2895120"/>
            <a:ext cx="44388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6" idx="2"/>
            <a:endCxn id="396" idx="1"/>
          </p:cNvCxnSpPr>
          <p:nvPr/>
        </p:nvCxnSpPr>
        <p:spPr>
          <a:xfrm>
            <a:off x="5105160" y="3276360"/>
            <a:ext cx="54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2284920" y="1295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Sent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580200" y="1295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581280" y="1981080"/>
            <a:ext cx="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81280" y="1981080"/>
            <a:ext cx="15264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1600200"/>
            <a:ext cx="0" cy="99072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0" y="1600200"/>
            <a:ext cx="152280" cy="99072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81280" y="1981080"/>
            <a:ext cx="76320" cy="129564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581280" y="1981080"/>
            <a:ext cx="304920" cy="129564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81280" y="1981080"/>
            <a:ext cx="533520" cy="129564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1981080"/>
            <a:ext cx="762120" cy="129564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83120" y="175248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Sent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offsets = {0,1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83320" y="190512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ict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ffsets = {0,1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024520" y="236232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Dec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offsets = {0,1,2,3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784560" y="1447920"/>
            <a:ext cx="207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marks go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valu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885-0260-45E2-AB25-47222900514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ndepend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733920" y="3048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ide whether consis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rcRect l="12840" t="19277" r="64539" b="67097"/>
          <a:stretch/>
        </p:blipFill>
        <p:spPr>
          <a:xfrm>
            <a:off x="2019240" y="5016600"/>
            <a:ext cx="5715000" cy="4143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rcRect l="12810" t="81133" r="64669" b="0"/>
          <a:stretch/>
        </p:blipFill>
        <p:spPr>
          <a:xfrm>
            <a:off x="1974960" y="5791320"/>
            <a:ext cx="5689440" cy="3045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 rot="5377800">
            <a:off x="2882520" y="37461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5377800">
            <a:off x="4406760" y="45846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377800">
            <a:off x="4806720" y="30416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09556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09920" y="297180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733920" y="335268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377800">
            <a:off x="2882520" y="37461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5377800">
            <a:off x="4806720" y="30416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76520" y="2362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 sent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00400" y="2666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905120" y="1294920"/>
            <a:ext cx="5790960" cy="793800"/>
            <a:chOff x="1905120" y="1294920"/>
            <a:chExt cx="5790960" cy="793800"/>
          </a:xfrm>
        </p:grpSpPr>
        <p:sp>
          <p:nvSpPr>
            <p:cNvPr id="443" name=""/>
            <p:cNvSpPr/>
            <p:nvPr/>
          </p:nvSpPr>
          <p:spPr>
            <a:xfrm>
              <a:off x="1905120" y="1301760"/>
              <a:ext cx="5790960" cy="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108160" y="1295280"/>
              <a:ext cx="0" cy="4572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3409920" y="1294920"/>
              <a:ext cx="5760" cy="7938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80880" y="4648320"/>
            <a:ext cx="2057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ed fMR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tical region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tical region 2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066680" y="5257800"/>
            <a:ext cx="674640" cy="685800"/>
            <a:chOff x="1066680" y="5257800"/>
            <a:chExt cx="674640" cy="685800"/>
          </a:xfrm>
        </p:grpSpPr>
        <p:pic>
          <p:nvPicPr>
            <p:cNvPr id="448" name="" descr=""/>
            <p:cNvPicPr/>
            <p:nvPr/>
          </p:nvPicPr>
          <p:blipFill>
            <a:blip r:embed="rId3"/>
            <a:stretch/>
          </p:blipFill>
          <p:spPr>
            <a:xfrm>
              <a:off x="1066680" y="5257800"/>
              <a:ext cx="674640" cy="685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9" name=""/>
            <p:cNvSpPr/>
            <p:nvPr/>
          </p:nvSpPr>
          <p:spPr>
            <a:xfrm>
              <a:off x="1435680" y="5394600"/>
              <a:ext cx="71280" cy="15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47560" y="5667840"/>
              <a:ext cx="136800" cy="680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52280" y="1447920"/>
            <a:ext cx="11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Landma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(Stimul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endCxn id="439" idx="1"/>
          </p:cNvCxnSpPr>
          <p:nvPr/>
        </p:nvCxnSpPr>
        <p:spPr>
          <a:xfrm>
            <a:off x="3504960" y="3352680"/>
            <a:ext cx="14533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3" name=""/>
          <p:cNvSpPr/>
          <p:nvPr/>
        </p:nvSpPr>
        <p:spPr>
          <a:xfrm>
            <a:off x="2132640" y="137160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Sent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427920" y="137160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2057400"/>
            <a:ext cx="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2057400"/>
            <a:ext cx="15228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33720" y="1676520"/>
            <a:ext cx="0" cy="99036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33720" y="1676520"/>
            <a:ext cx="152280" cy="99036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29000" y="2057400"/>
            <a:ext cx="76320" cy="129528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29000" y="2057400"/>
            <a:ext cx="304920" cy="129528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429000" y="2057400"/>
            <a:ext cx="533520" cy="129528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29000" y="2057400"/>
            <a:ext cx="762120" cy="129528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130480" y="182880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Sent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offsets = {0,1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730680" y="198108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ict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ffsets = {0,1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872240" y="243828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Dec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offsets = {0,1,2,3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524880" y="30481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ide whether consis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4"/>
          <a:srcRect l="12840" t="19277" r="64539" b="67097"/>
          <a:stretch/>
        </p:blipFill>
        <p:spPr>
          <a:xfrm>
            <a:off x="7810560" y="5016600"/>
            <a:ext cx="5715000" cy="4143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5"/>
          <a:srcRect l="12810" t="81133" r="64669" b="0"/>
          <a:stretch/>
        </p:blipFill>
        <p:spPr>
          <a:xfrm>
            <a:off x="7765920" y="5791320"/>
            <a:ext cx="568980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 rot="5377800">
            <a:off x="8673840" y="37461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5377800">
            <a:off x="10197720" y="45846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5377800">
            <a:off x="10598040" y="30416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886880" y="266688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201240" y="297180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524880" y="335268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5377800">
            <a:off x="8673840" y="37461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5377800">
            <a:off x="10598040" y="30416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467480" y="2362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 sent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991720" y="2666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696080" y="1294920"/>
            <a:ext cx="5791320" cy="793800"/>
            <a:chOff x="7696080" y="1294920"/>
            <a:chExt cx="5791320" cy="793800"/>
          </a:xfrm>
        </p:grpSpPr>
        <p:sp>
          <p:nvSpPr>
            <p:cNvPr id="480" name=""/>
            <p:cNvSpPr/>
            <p:nvPr/>
          </p:nvSpPr>
          <p:spPr>
            <a:xfrm>
              <a:off x="7696080" y="1301760"/>
              <a:ext cx="5791320" cy="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7899480" y="1295280"/>
              <a:ext cx="0" cy="4572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9200880" y="1294920"/>
              <a:ext cx="6120" cy="7938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83" name=""/>
          <p:cNvCxnSpPr>
            <a:stCxn id="477" idx="2"/>
            <a:endCxn id="475" idx="1"/>
          </p:cNvCxnSpPr>
          <p:nvPr/>
        </p:nvCxnSpPr>
        <p:spPr>
          <a:xfrm>
            <a:off x="8381520" y="2666880"/>
            <a:ext cx="443880" cy="198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4" name=""/>
          <p:cNvCxnSpPr>
            <a:stCxn id="478" idx="2"/>
            <a:endCxn id="470" idx="1"/>
          </p:cNvCxnSpPr>
          <p:nvPr/>
        </p:nvCxnSpPr>
        <p:spPr>
          <a:xfrm>
            <a:off x="9906120" y="2971440"/>
            <a:ext cx="44352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5" name=""/>
          <p:cNvCxnSpPr>
            <a:stCxn id="466" idx="2"/>
            <a:endCxn id="476" idx="1"/>
          </p:cNvCxnSpPr>
          <p:nvPr/>
        </p:nvCxnSpPr>
        <p:spPr>
          <a:xfrm>
            <a:off x="10743840" y="3352680"/>
            <a:ext cx="540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6" name=""/>
          <p:cNvSpPr/>
          <p:nvPr/>
        </p:nvSpPr>
        <p:spPr>
          <a:xfrm>
            <a:off x="7923600" y="137160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Sent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219240" y="137160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9220320" y="2057400"/>
            <a:ext cx="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9220320" y="2057400"/>
            <a:ext cx="15228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924680" y="1676520"/>
            <a:ext cx="0" cy="99036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924680" y="1676520"/>
            <a:ext cx="152640" cy="99036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220320" y="2057400"/>
            <a:ext cx="75960" cy="129528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220320" y="2057400"/>
            <a:ext cx="304560" cy="129528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220320" y="2057400"/>
            <a:ext cx="533160" cy="129528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220320" y="2057400"/>
            <a:ext cx="761760" cy="129528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982280" y="183996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Sent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offsets = {0,1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522000" y="198108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ict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ffsets = {0,1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663200" y="243828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Dec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offsets = {0,1,2,3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5377800">
            <a:off x="5035320" y="30416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5377800">
            <a:off x="5263920" y="30416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5377800">
            <a:off x="5492520" y="3041640"/>
            <a:ext cx="304560" cy="306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/>
          <p:nvPr/>
        </p:nvCxnSpPr>
        <p:spPr>
          <a:xfrm>
            <a:off x="3733560" y="3352680"/>
            <a:ext cx="14533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3" name=""/>
          <p:cNvCxnSpPr/>
          <p:nvPr/>
        </p:nvCxnSpPr>
        <p:spPr>
          <a:xfrm>
            <a:off x="3962160" y="3352680"/>
            <a:ext cx="14533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"/>
          <p:cNvCxnSpPr/>
          <p:nvPr/>
        </p:nvCxnSpPr>
        <p:spPr>
          <a:xfrm>
            <a:off x="4190760" y="3352680"/>
            <a:ext cx="14533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 rot="5377800">
            <a:off x="4559040" y="45846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971800"/>
            <a:ext cx="11430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2971800"/>
            <a:ext cx="11430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33720" y="2666880"/>
            <a:ext cx="914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5377800">
            <a:off x="3035160" y="3746160"/>
            <a:ext cx="304560" cy="2108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0" y="2666880"/>
            <a:ext cx="914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91520" y="3581280"/>
            <a:ext cx="0" cy="1371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61240" y="30481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EBC-88F9-49A3-818F-52669DE726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the M-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least squares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, but may become intractable for larg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s are the probabilities computed in the E-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ient ascent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, but may be necessary when exact method is intrac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atives of the expected log likelihood of the data with respect to th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AE6-E40A-474E-92D6-57B007BE998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MRI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 and non-inva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l resolution ~ 1 3D image every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resolution ~ 1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xels: 3mm x 3mm x 3-5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the BOLD response: Blood Oxygen Level 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indicator of neural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6D6-FA3D-4256-8D6D-E9B7C9EBC3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MRI (functional Magnetic Resonance Imaging)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work on analyzing fMRI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Ms (Hidden Process Mod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Preliminar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Ms and Body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F40-AAB8-4A0C-92DE-4EE32E8670A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73240" y="1371600"/>
            <a:ext cx="175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006800" y="1371600"/>
            <a:ext cx="175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93440" y="19810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8600" y="2433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28600" y="235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38680" y="235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133720" y="2433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33720" y="235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8480" y="2433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235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250320" y="121932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54280" y="2514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59400" y="2514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080" y="251460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67280" y="24382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554880" y="1981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5638320" y="15192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rcRect l="5985" t="38277" r="7893" b="26538"/>
          <a:stretch/>
        </p:blipFill>
        <p:spPr>
          <a:xfrm>
            <a:off x="228600" y="2895480"/>
            <a:ext cx="3886200" cy="4622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990720" y="3429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or sent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19720" y="3352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or sent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rcRect l="5985" t="38277" r="7893" b="26538"/>
          <a:stretch/>
        </p:blipFill>
        <p:spPr>
          <a:xfrm>
            <a:off x="4038480" y="2895480"/>
            <a:ext cx="3886200" cy="4622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7317000" y="2590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7724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N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0" y="4495680"/>
            <a:ext cx="9753480" cy="1526760"/>
            <a:chOff x="0" y="4495680"/>
            <a:chExt cx="9753480" cy="1526760"/>
          </a:xfrm>
        </p:grpSpPr>
        <p:pic>
          <p:nvPicPr>
            <p:cNvPr id="542" name="" descr=""/>
            <p:cNvPicPr/>
            <p:nvPr/>
          </p:nvPicPr>
          <p:blipFill>
            <a:blip r:embed="rId3"/>
            <a:srcRect l="5985" t="38277" r="7893" b="26538"/>
            <a:stretch/>
          </p:blipFill>
          <p:spPr>
            <a:xfrm>
              <a:off x="228600" y="4495680"/>
              <a:ext cx="571500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99072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icture or sentenc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2578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icture or sentenc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" descr=""/>
            <p:cNvPicPr/>
            <p:nvPr/>
          </p:nvPicPr>
          <p:blipFill>
            <a:blip r:embed="rId4"/>
            <a:srcRect l="5985" t="38277" r="7893" b="26538"/>
            <a:stretch/>
          </p:blipFill>
          <p:spPr>
            <a:xfrm>
              <a:off x="4114800" y="4876920"/>
              <a:ext cx="56386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0" y="50292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PM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C2C-2DD5-46F6-B3DB-D5F36178564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B vs. HPM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NB: non-overlapping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M: simultaneous classification of multiple overlapping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improvement of 15% in classification error using HPM vs G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for one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NB classification error: 0.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M classification error: 0.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390-329B-4ED8-914D-2420A793A1A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304920" y="3657600"/>
            <a:ext cx="9753840" cy="32004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066680" y="6248520"/>
            <a:ext cx="50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ial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04920" y="304920"/>
            <a:ext cx="8229600" cy="4038480"/>
            <a:chOff x="304920" y="304920"/>
            <a:chExt cx="8229600" cy="4038480"/>
          </a:xfrm>
        </p:grpSpPr>
        <p:sp>
          <p:nvSpPr>
            <p:cNvPr id="553" name=""/>
            <p:cNvSpPr/>
            <p:nvPr/>
          </p:nvSpPr>
          <p:spPr>
            <a:xfrm>
              <a:off x="4724280" y="3124080"/>
              <a:ext cx="38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rned 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" descr=""/>
            <p:cNvPicPr/>
            <p:nvPr/>
          </p:nvPicPr>
          <p:blipFill>
            <a:blip r:embed="rId2"/>
            <a:stretch/>
          </p:blipFill>
          <p:spPr>
            <a:xfrm>
              <a:off x="304920" y="2057400"/>
              <a:ext cx="41907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3"/>
            <a:stretch/>
          </p:blipFill>
          <p:spPr>
            <a:xfrm>
              <a:off x="2209680" y="304920"/>
              <a:ext cx="4191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 flipH="1">
              <a:off x="3657600" y="3352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943600" y="2514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28400" y="2057400"/>
              <a:ext cx="24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rehend sent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23280" y="3809880"/>
              <a:ext cx="22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rehend pi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289548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1440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57F-09A0-4AF9-A327-98B86B1B732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selection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with 2 or 3 cognitive proc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we know ground tru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validated data likelihood P(testData | H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with 3 processes tha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validated classification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with 3 processes tha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B37-CBB1-4340-B868-ED74F84B274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work and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emporal and/or spatial smoothness constra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selection for HP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libraries, hierarch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parameters (e.g. sentence negated or no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process inte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ing parameters for response amplitudes to model habituation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D05-6E46-4C03-8562-FE4DEC050FC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MRI (functional Magnetic Resonance Imaging)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work on analyzing fMRI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Ms (Hidden Process Mod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HPMs and Body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0E6-0C5D-48E4-85B5-6A24E7E5261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ide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609480" y="5334120"/>
            <a:ext cx="1371600" cy="9730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2057400" y="51814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057400" y="64008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5320" y="4952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Sensor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11640" y="61722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Sensor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8160" y="16257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19810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09880" y="121932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19920" y="121932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674720" y="1143000"/>
            <a:ext cx="169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: Riding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0" y="114300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: Ea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: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018840" y="1143000"/>
            <a:ext cx="145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: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D: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28800" y="2362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62520" y="2362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48520" y="2362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905120" y="1790640"/>
            <a:ext cx="1218960" cy="800280"/>
          </a:xfrm>
          <a:custGeom>
            <a:avLst/>
            <a:gdLst/>
            <a:ahLst/>
            <a:rect l="l" t="t" r="r" b="b"/>
            <a:pathLst>
              <a:path w="768" h="504">
                <a:moveTo>
                  <a:pt x="0" y="312"/>
                </a:moveTo>
                <a:cubicBezTo>
                  <a:pt x="24" y="408"/>
                  <a:pt x="48" y="504"/>
                  <a:pt x="96" y="456"/>
                </a:cubicBezTo>
                <a:cubicBezTo>
                  <a:pt x="144" y="408"/>
                  <a:pt x="224" y="48"/>
                  <a:pt x="288" y="24"/>
                </a:cubicBezTo>
                <a:cubicBezTo>
                  <a:pt x="352" y="0"/>
                  <a:pt x="400" y="256"/>
                  <a:pt x="480" y="312"/>
                </a:cubicBezTo>
                <a:cubicBezTo>
                  <a:pt x="560" y="368"/>
                  <a:pt x="720" y="352"/>
                  <a:pt x="768" y="360"/>
                </a:cubicBezTo>
              </a:path>
            </a:pathLst>
          </a:custGeom>
          <a:noFill/>
          <a:ln w="284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038480" y="2044800"/>
            <a:ext cx="1219320" cy="431640"/>
          </a:xfrm>
          <a:custGeom>
            <a:avLst/>
            <a:gdLst/>
            <a:ahLst/>
            <a:rect l="l" t="t" r="r" b="b"/>
            <a:pathLst>
              <a:path w="768" h="272">
                <a:moveTo>
                  <a:pt x="0" y="152"/>
                </a:moveTo>
                <a:cubicBezTo>
                  <a:pt x="32" y="212"/>
                  <a:pt x="64" y="272"/>
                  <a:pt x="144" y="248"/>
                </a:cubicBezTo>
                <a:cubicBezTo>
                  <a:pt x="224" y="224"/>
                  <a:pt x="376" y="16"/>
                  <a:pt x="480" y="8"/>
                </a:cubicBezTo>
                <a:cubicBezTo>
                  <a:pt x="584" y="0"/>
                  <a:pt x="676" y="100"/>
                  <a:pt x="768" y="200"/>
                </a:cubicBezTo>
              </a:path>
            </a:pathLst>
          </a:custGeom>
          <a:noFill/>
          <a:ln w="284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324480" y="2057400"/>
            <a:ext cx="121932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192"/>
                </a:moveTo>
                <a:cubicBezTo>
                  <a:pt x="80" y="96"/>
                  <a:pt x="160" y="0"/>
                  <a:pt x="288" y="0"/>
                </a:cubicBezTo>
                <a:cubicBezTo>
                  <a:pt x="416" y="0"/>
                  <a:pt x="592" y="96"/>
                  <a:pt x="768" y="192"/>
                </a:cubicBezTo>
              </a:path>
            </a:pathLst>
          </a:custGeom>
          <a:noFill/>
          <a:ln w="284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81080" y="1752480"/>
            <a:ext cx="1219320" cy="800280"/>
          </a:xfrm>
          <a:custGeom>
            <a:avLst/>
            <a:gdLst/>
            <a:ahLst/>
            <a:rect l="l" t="t" r="r" b="b"/>
            <a:pathLst>
              <a:path w="768" h="504">
                <a:moveTo>
                  <a:pt x="0" y="312"/>
                </a:moveTo>
                <a:cubicBezTo>
                  <a:pt x="24" y="408"/>
                  <a:pt x="48" y="504"/>
                  <a:pt x="96" y="456"/>
                </a:cubicBezTo>
                <a:cubicBezTo>
                  <a:pt x="144" y="408"/>
                  <a:pt x="224" y="48"/>
                  <a:pt x="288" y="24"/>
                </a:cubicBezTo>
                <a:cubicBezTo>
                  <a:pt x="352" y="0"/>
                  <a:pt x="400" y="256"/>
                  <a:pt x="480" y="312"/>
                </a:cubicBezTo>
                <a:cubicBezTo>
                  <a:pt x="560" y="368"/>
                  <a:pt x="720" y="352"/>
                  <a:pt x="768" y="36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2057400"/>
            <a:ext cx="1218960" cy="30492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192"/>
                </a:moveTo>
                <a:cubicBezTo>
                  <a:pt x="80" y="96"/>
                  <a:pt x="160" y="0"/>
                  <a:pt x="288" y="0"/>
                </a:cubicBezTo>
                <a:cubicBezTo>
                  <a:pt x="416" y="0"/>
                  <a:pt x="592" y="96"/>
                  <a:pt x="768" y="19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324480" y="2031840"/>
            <a:ext cx="1219320" cy="330480"/>
          </a:xfrm>
          <a:custGeom>
            <a:avLst/>
            <a:gdLst/>
            <a:ahLst/>
            <a:rect l="l" t="t" r="r" b="b"/>
            <a:pathLst>
              <a:path w="768" h="208">
                <a:moveTo>
                  <a:pt x="0" y="208"/>
                </a:moveTo>
                <a:cubicBezTo>
                  <a:pt x="20" y="120"/>
                  <a:pt x="40" y="32"/>
                  <a:pt x="96" y="16"/>
                </a:cubicBezTo>
                <a:cubicBezTo>
                  <a:pt x="152" y="0"/>
                  <a:pt x="240" y="96"/>
                  <a:pt x="336" y="112"/>
                </a:cubicBezTo>
                <a:cubicBezTo>
                  <a:pt x="432" y="128"/>
                  <a:pt x="600" y="96"/>
                  <a:pt x="672" y="112"/>
                </a:cubicBezTo>
                <a:cubicBezTo>
                  <a:pt x="744" y="128"/>
                  <a:pt x="752" y="192"/>
                  <a:pt x="768" y="208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30760" y="3200400"/>
            <a:ext cx="13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33720" y="4673520"/>
            <a:ext cx="5638680" cy="914400"/>
          </a:xfrm>
          <a:custGeom>
            <a:avLst/>
            <a:gdLst/>
            <a:ahLst/>
            <a:rect l="l" t="t" r="r" b="b"/>
            <a:pathLst>
              <a:path w="3552" h="576">
                <a:moveTo>
                  <a:pt x="0" y="320"/>
                </a:moveTo>
                <a:cubicBezTo>
                  <a:pt x="40" y="244"/>
                  <a:pt x="80" y="168"/>
                  <a:pt x="96" y="176"/>
                </a:cubicBezTo>
                <a:cubicBezTo>
                  <a:pt x="112" y="184"/>
                  <a:pt x="72" y="368"/>
                  <a:pt x="96" y="368"/>
                </a:cubicBezTo>
                <a:cubicBezTo>
                  <a:pt x="120" y="368"/>
                  <a:pt x="176" y="224"/>
                  <a:pt x="240" y="176"/>
                </a:cubicBezTo>
                <a:cubicBezTo>
                  <a:pt x="304" y="128"/>
                  <a:pt x="416" y="48"/>
                  <a:pt x="480" y="80"/>
                </a:cubicBezTo>
                <a:cubicBezTo>
                  <a:pt x="544" y="112"/>
                  <a:pt x="592" y="368"/>
                  <a:pt x="624" y="368"/>
                </a:cubicBezTo>
                <a:cubicBezTo>
                  <a:pt x="656" y="368"/>
                  <a:pt x="656" y="80"/>
                  <a:pt x="672" y="80"/>
                </a:cubicBezTo>
                <a:cubicBezTo>
                  <a:pt x="688" y="80"/>
                  <a:pt x="704" y="368"/>
                  <a:pt x="720" y="368"/>
                </a:cubicBezTo>
                <a:cubicBezTo>
                  <a:pt x="736" y="368"/>
                  <a:pt x="744" y="64"/>
                  <a:pt x="768" y="80"/>
                </a:cubicBezTo>
                <a:cubicBezTo>
                  <a:pt x="792" y="96"/>
                  <a:pt x="832" y="440"/>
                  <a:pt x="864" y="464"/>
                </a:cubicBezTo>
                <a:cubicBezTo>
                  <a:pt x="896" y="488"/>
                  <a:pt x="904" y="288"/>
                  <a:pt x="960" y="224"/>
                </a:cubicBezTo>
                <a:cubicBezTo>
                  <a:pt x="1016" y="160"/>
                  <a:pt x="1120" y="88"/>
                  <a:pt x="1200" y="80"/>
                </a:cubicBezTo>
                <a:cubicBezTo>
                  <a:pt x="1280" y="72"/>
                  <a:pt x="1368" y="184"/>
                  <a:pt x="1440" y="176"/>
                </a:cubicBezTo>
                <a:cubicBezTo>
                  <a:pt x="1512" y="168"/>
                  <a:pt x="1576" y="32"/>
                  <a:pt x="1632" y="32"/>
                </a:cubicBezTo>
                <a:cubicBezTo>
                  <a:pt x="1688" y="32"/>
                  <a:pt x="1736" y="120"/>
                  <a:pt x="1776" y="176"/>
                </a:cubicBezTo>
                <a:cubicBezTo>
                  <a:pt x="1816" y="232"/>
                  <a:pt x="1840" y="352"/>
                  <a:pt x="1872" y="368"/>
                </a:cubicBezTo>
                <a:cubicBezTo>
                  <a:pt x="1904" y="384"/>
                  <a:pt x="1936" y="328"/>
                  <a:pt x="1968" y="272"/>
                </a:cubicBezTo>
                <a:cubicBezTo>
                  <a:pt x="2000" y="216"/>
                  <a:pt x="2016" y="64"/>
                  <a:pt x="2064" y="32"/>
                </a:cubicBezTo>
                <a:cubicBezTo>
                  <a:pt x="2112" y="0"/>
                  <a:pt x="2208" y="56"/>
                  <a:pt x="2256" y="80"/>
                </a:cubicBezTo>
                <a:cubicBezTo>
                  <a:pt x="2304" y="104"/>
                  <a:pt x="2328" y="96"/>
                  <a:pt x="2352" y="176"/>
                </a:cubicBezTo>
                <a:cubicBezTo>
                  <a:pt x="2376" y="256"/>
                  <a:pt x="2384" y="576"/>
                  <a:pt x="2400" y="560"/>
                </a:cubicBezTo>
                <a:cubicBezTo>
                  <a:pt x="2416" y="544"/>
                  <a:pt x="2416" y="136"/>
                  <a:pt x="2448" y="80"/>
                </a:cubicBezTo>
                <a:cubicBezTo>
                  <a:pt x="2480" y="24"/>
                  <a:pt x="2544" y="216"/>
                  <a:pt x="2592" y="224"/>
                </a:cubicBezTo>
                <a:cubicBezTo>
                  <a:pt x="2640" y="232"/>
                  <a:pt x="2672" y="136"/>
                  <a:pt x="2736" y="128"/>
                </a:cubicBezTo>
                <a:cubicBezTo>
                  <a:pt x="2800" y="120"/>
                  <a:pt x="2912" y="136"/>
                  <a:pt x="2976" y="176"/>
                </a:cubicBezTo>
                <a:cubicBezTo>
                  <a:pt x="3040" y="216"/>
                  <a:pt x="3088" y="360"/>
                  <a:pt x="3120" y="368"/>
                </a:cubicBezTo>
                <a:cubicBezTo>
                  <a:pt x="3152" y="376"/>
                  <a:pt x="3152" y="272"/>
                  <a:pt x="3168" y="224"/>
                </a:cubicBezTo>
                <a:cubicBezTo>
                  <a:pt x="3184" y="176"/>
                  <a:pt x="3200" y="88"/>
                  <a:pt x="3216" y="80"/>
                </a:cubicBezTo>
                <a:cubicBezTo>
                  <a:pt x="3232" y="72"/>
                  <a:pt x="3240" y="120"/>
                  <a:pt x="3264" y="176"/>
                </a:cubicBezTo>
                <a:cubicBezTo>
                  <a:pt x="3288" y="232"/>
                  <a:pt x="3328" y="416"/>
                  <a:pt x="3360" y="416"/>
                </a:cubicBezTo>
                <a:cubicBezTo>
                  <a:pt x="3392" y="416"/>
                  <a:pt x="3424" y="192"/>
                  <a:pt x="3456" y="176"/>
                </a:cubicBezTo>
                <a:cubicBezTo>
                  <a:pt x="3488" y="160"/>
                  <a:pt x="3528" y="296"/>
                  <a:pt x="3552" y="320"/>
                </a:cubicBezTo>
              </a:path>
            </a:pathLst>
          </a:custGeom>
          <a:noFill/>
          <a:ln w="190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120760" y="5956200"/>
            <a:ext cx="5651640" cy="762120"/>
          </a:xfrm>
          <a:custGeom>
            <a:avLst/>
            <a:gdLst/>
            <a:ahLst/>
            <a:rect l="l" t="t" r="r" b="b"/>
            <a:pathLst>
              <a:path w="3560" h="480">
                <a:moveTo>
                  <a:pt x="8" y="280"/>
                </a:moveTo>
                <a:cubicBezTo>
                  <a:pt x="4" y="316"/>
                  <a:pt x="0" y="352"/>
                  <a:pt x="8" y="328"/>
                </a:cubicBezTo>
                <a:cubicBezTo>
                  <a:pt x="16" y="304"/>
                  <a:pt x="32" y="160"/>
                  <a:pt x="56" y="136"/>
                </a:cubicBezTo>
                <a:cubicBezTo>
                  <a:pt x="80" y="112"/>
                  <a:pt x="128" y="144"/>
                  <a:pt x="152" y="184"/>
                </a:cubicBezTo>
                <a:cubicBezTo>
                  <a:pt x="176" y="224"/>
                  <a:pt x="176" y="400"/>
                  <a:pt x="200" y="376"/>
                </a:cubicBezTo>
                <a:cubicBezTo>
                  <a:pt x="224" y="352"/>
                  <a:pt x="264" y="24"/>
                  <a:pt x="296" y="40"/>
                </a:cubicBezTo>
                <a:cubicBezTo>
                  <a:pt x="328" y="56"/>
                  <a:pt x="360" y="464"/>
                  <a:pt x="392" y="472"/>
                </a:cubicBezTo>
                <a:cubicBezTo>
                  <a:pt x="424" y="480"/>
                  <a:pt x="456" y="96"/>
                  <a:pt x="488" y="88"/>
                </a:cubicBezTo>
                <a:cubicBezTo>
                  <a:pt x="520" y="80"/>
                  <a:pt x="560" y="408"/>
                  <a:pt x="584" y="424"/>
                </a:cubicBezTo>
                <a:cubicBezTo>
                  <a:pt x="608" y="440"/>
                  <a:pt x="616" y="200"/>
                  <a:pt x="632" y="184"/>
                </a:cubicBezTo>
                <a:cubicBezTo>
                  <a:pt x="648" y="168"/>
                  <a:pt x="664" y="344"/>
                  <a:pt x="680" y="328"/>
                </a:cubicBezTo>
                <a:cubicBezTo>
                  <a:pt x="696" y="312"/>
                  <a:pt x="696" y="88"/>
                  <a:pt x="728" y="88"/>
                </a:cubicBezTo>
                <a:cubicBezTo>
                  <a:pt x="760" y="88"/>
                  <a:pt x="832" y="336"/>
                  <a:pt x="872" y="328"/>
                </a:cubicBezTo>
                <a:cubicBezTo>
                  <a:pt x="912" y="320"/>
                  <a:pt x="928" y="80"/>
                  <a:pt x="968" y="40"/>
                </a:cubicBezTo>
                <a:cubicBezTo>
                  <a:pt x="1008" y="0"/>
                  <a:pt x="1040" y="80"/>
                  <a:pt x="1112" y="88"/>
                </a:cubicBezTo>
                <a:cubicBezTo>
                  <a:pt x="1184" y="96"/>
                  <a:pt x="1344" y="72"/>
                  <a:pt x="1400" y="88"/>
                </a:cubicBezTo>
                <a:cubicBezTo>
                  <a:pt x="1456" y="104"/>
                  <a:pt x="1424" y="152"/>
                  <a:pt x="1448" y="184"/>
                </a:cubicBezTo>
                <a:cubicBezTo>
                  <a:pt x="1472" y="216"/>
                  <a:pt x="1512" y="240"/>
                  <a:pt x="1544" y="280"/>
                </a:cubicBezTo>
                <a:cubicBezTo>
                  <a:pt x="1576" y="320"/>
                  <a:pt x="1616" y="448"/>
                  <a:pt x="1640" y="424"/>
                </a:cubicBezTo>
                <a:cubicBezTo>
                  <a:pt x="1664" y="400"/>
                  <a:pt x="1656" y="144"/>
                  <a:pt x="1688" y="136"/>
                </a:cubicBezTo>
                <a:cubicBezTo>
                  <a:pt x="1720" y="128"/>
                  <a:pt x="1808" y="376"/>
                  <a:pt x="1832" y="376"/>
                </a:cubicBezTo>
                <a:cubicBezTo>
                  <a:pt x="1856" y="376"/>
                  <a:pt x="1808" y="136"/>
                  <a:pt x="1832" y="136"/>
                </a:cubicBezTo>
                <a:cubicBezTo>
                  <a:pt x="1856" y="136"/>
                  <a:pt x="1928" y="384"/>
                  <a:pt x="1976" y="376"/>
                </a:cubicBezTo>
                <a:cubicBezTo>
                  <a:pt x="2024" y="368"/>
                  <a:pt x="2080" y="112"/>
                  <a:pt x="2120" y="88"/>
                </a:cubicBezTo>
                <a:cubicBezTo>
                  <a:pt x="2160" y="64"/>
                  <a:pt x="2176" y="184"/>
                  <a:pt x="2216" y="232"/>
                </a:cubicBezTo>
                <a:cubicBezTo>
                  <a:pt x="2256" y="280"/>
                  <a:pt x="2296" y="352"/>
                  <a:pt x="2360" y="376"/>
                </a:cubicBezTo>
                <a:cubicBezTo>
                  <a:pt x="2424" y="400"/>
                  <a:pt x="2544" y="416"/>
                  <a:pt x="2600" y="376"/>
                </a:cubicBezTo>
                <a:cubicBezTo>
                  <a:pt x="2656" y="336"/>
                  <a:pt x="2648" y="168"/>
                  <a:pt x="2696" y="136"/>
                </a:cubicBezTo>
                <a:cubicBezTo>
                  <a:pt x="2744" y="104"/>
                  <a:pt x="2832" y="192"/>
                  <a:pt x="2888" y="184"/>
                </a:cubicBezTo>
                <a:cubicBezTo>
                  <a:pt x="2944" y="176"/>
                  <a:pt x="2992" y="48"/>
                  <a:pt x="3032" y="88"/>
                </a:cubicBezTo>
                <a:cubicBezTo>
                  <a:pt x="3072" y="128"/>
                  <a:pt x="3096" y="416"/>
                  <a:pt x="3128" y="424"/>
                </a:cubicBezTo>
                <a:cubicBezTo>
                  <a:pt x="3160" y="432"/>
                  <a:pt x="3200" y="136"/>
                  <a:pt x="3224" y="136"/>
                </a:cubicBezTo>
                <a:cubicBezTo>
                  <a:pt x="3248" y="136"/>
                  <a:pt x="3248" y="424"/>
                  <a:pt x="3272" y="424"/>
                </a:cubicBezTo>
                <a:cubicBezTo>
                  <a:pt x="3296" y="424"/>
                  <a:pt x="3344" y="136"/>
                  <a:pt x="3368" y="136"/>
                </a:cubicBezTo>
                <a:cubicBezTo>
                  <a:pt x="3392" y="136"/>
                  <a:pt x="3392" y="424"/>
                  <a:pt x="3416" y="424"/>
                </a:cubicBezTo>
                <a:cubicBezTo>
                  <a:pt x="3440" y="424"/>
                  <a:pt x="3488" y="160"/>
                  <a:pt x="3512" y="136"/>
                </a:cubicBezTo>
                <a:cubicBezTo>
                  <a:pt x="3536" y="112"/>
                  <a:pt x="3536" y="256"/>
                  <a:pt x="3560" y="280"/>
                </a:cubicBezTo>
              </a:path>
            </a:pathLst>
          </a:custGeom>
          <a:noFill/>
          <a:ln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59000" y="426708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33526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895480" y="37339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419720" y="411480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36240" y="297180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D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279240" y="33526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D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36640" y="37339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D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5377800">
            <a:off x="2958840" y="3441600"/>
            <a:ext cx="304920" cy="2108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5377800">
            <a:off x="4188600" y="3120840"/>
            <a:ext cx="304920" cy="2895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5377800">
            <a:off x="2857320" y="4991040"/>
            <a:ext cx="304920" cy="1752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5377800">
            <a:off x="5981400" y="422892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"/>
          <p:cNvCxnSpPr>
            <a:stCxn id="597" idx="2"/>
            <a:endCxn id="600" idx="1"/>
          </p:cNvCxnSpPr>
          <p:nvPr/>
        </p:nvCxnSpPr>
        <p:spPr>
          <a:xfrm>
            <a:off x="2914200" y="3338280"/>
            <a:ext cx="196200" cy="10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"/>
          <p:cNvCxnSpPr>
            <a:stCxn id="597" idx="2"/>
            <a:endCxn id="602" idx="1"/>
          </p:cNvCxnSpPr>
          <p:nvPr/>
        </p:nvCxnSpPr>
        <p:spPr>
          <a:xfrm>
            <a:off x="2914560" y="3338280"/>
            <a:ext cx="9432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"/>
          <p:cNvCxnSpPr>
            <a:stCxn id="598" idx="2"/>
            <a:endCxn id="601" idx="1"/>
          </p:cNvCxnSpPr>
          <p:nvPr/>
        </p:nvCxnSpPr>
        <p:spPr>
          <a:xfrm>
            <a:off x="4057200" y="3719520"/>
            <a:ext cx="28332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"/>
          <p:cNvCxnSpPr>
            <a:stCxn id="599" idx="2"/>
            <a:endCxn id="603" idx="1"/>
          </p:cNvCxnSpPr>
          <p:nvPr/>
        </p:nvCxnSpPr>
        <p:spPr>
          <a:xfrm>
            <a:off x="6114600" y="4100040"/>
            <a:ext cx="18360" cy="16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3BE-6531-487D-8CA5-32C5426591D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cesses are intere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ranularity/duration would processes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landmark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process duration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way to parameterize process signa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1CF-748D-446B-A27E-36E417EC4A4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LD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 of deoxy-hemoglobin to oxy-hemoglobin (different magnetic properti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hemodynamic response function (HR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working assumption: responses sum lin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FFF-ACC9-435C-9011-7937EDCBB0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BOLD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14400" y="1752480"/>
            <a:ext cx="3240000" cy="4114800"/>
            <a:chOff x="914400" y="1752480"/>
            <a:chExt cx="3240000" cy="41148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rcRect l="14958" t="0" r="0" b="0"/>
            <a:stretch/>
          </p:blipFill>
          <p:spPr>
            <a:xfrm>
              <a:off x="914400" y="1752480"/>
              <a:ext cx="32400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914400" y="1752480"/>
              <a:ext cx="32400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37480" y="2902320"/>
            <a:ext cx="45468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32200" y="57913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 (seco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ft is a typical BOLD response to a brief st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ere, subject reads a word, decides whether it is a noun or verb, and pushes a button in less than 1 secon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ABA-DE9A-4764-A497-2B84F66AD2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458200" cy="638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42432" t="32293" r="18034" b="38544"/>
          <a:stretch/>
        </p:blipFill>
        <p:spPr>
          <a:xfrm>
            <a:off x="4876920" y="4191120"/>
            <a:ext cx="3581280" cy="213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63A-4685-4AA7-AF5C-E0D7F34282DB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17254" t="18556" r="12060" b="23158"/>
          <a:stretch/>
        </p:blipFill>
        <p:spPr>
          <a:xfrm>
            <a:off x="4800600" y="2438280"/>
            <a:ext cx="3581280" cy="2214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ts of featur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37160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000-15,000 voxels per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2438280"/>
            <a:ext cx="3886200" cy="3119400"/>
            <a:chOff x="228600" y="2438280"/>
            <a:chExt cx="3886200" cy="311940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228600" y="2438280"/>
              <a:ext cx="3124080" cy="235728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380880" y="2590560"/>
              <a:ext cx="3124080" cy="235764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990360" y="3200400"/>
              <a:ext cx="3124440" cy="235728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sp>
          <p:nvSpPr>
            <p:cNvPr id="67" name=""/>
            <p:cNvSpPr/>
            <p:nvPr/>
          </p:nvSpPr>
          <p:spPr>
            <a:xfrm>
              <a:off x="545400" y="49672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351-A4CA-4001-B4EA-EB97FE7594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: Pictures and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normal su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trials per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s and pictures describe 3 symbols: *, +, and $, using ‘above’, ‘below’, ‘not above’, ‘not below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 are acquired every 0.5 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6200" y="19810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24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56080" y="15238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a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09440" y="19810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View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17520" y="1981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x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438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2438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438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2800" y="121932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8240" y="25146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3360" y="25146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0880" y="25146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2438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00200" y="1981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095520" y="15238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51A-149F-4B8A-9120-F2C9349FBC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22:57:35Z</dcterms:created>
  <dc:creator>rah</dc:creator>
  <dc:description/>
  <dc:language>en-US</dc:language>
  <cp:lastModifiedBy>School of Computer Science</cp:lastModifiedBy>
  <dcterms:modified xsi:type="dcterms:W3CDTF">2005-03-30T21:33:59Z</dcterms:modified>
  <cp:revision>39</cp:revision>
  <dc:subject/>
  <dc:title>Hidden Process Models</dc:title>
</cp:coreProperties>
</file>